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1EC-07BE-4FA0-BF93-1B0D287C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1B0-6FEF-467E-AED1-74AFA1EC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CEA-6567-43BB-99F1-5B49A4A1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98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98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9DE-5D17-4A28-875F-D8361050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932-1CB1-41C6-A168-ABB70E6D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5BC-55DD-49C2-8AAA-B539D0E7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E9E-80BD-4180-BF54-D4202D77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FDC-F8A0-461F-A9B0-4A608A57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988-AFF7-44EC-A2F4-2CEE382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BED-9B19-430A-A7B1-783BB8E8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AEB-62FB-4519-A632-7D45721E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65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B15-4B3B-4DE7-ABF1-B49BB588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6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9694-558A-43C7-A995-DC175B858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42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48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51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54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Clase Auxiliar N°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145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449360" y="2440080"/>
            <a:ext cx="2006640" cy="2654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12c97"/>
            </a:outerShdw>
          </a:effectLst>
        </p:spPr>
      </p:pic>
      <p:graphicFrame>
        <p:nvGraphicFramePr>
          <p:cNvPr id="63" name=""/>
          <p:cNvGraphicFramePr/>
          <p:nvPr/>
        </p:nvGraphicFramePr>
        <p:xfrm>
          <a:off x="3887640" y="2516040"/>
          <a:ext cx="3751560" cy="4104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7640" y="2516040"/>
                    <a:ext cx="3751560" cy="4104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12c97"/>
                    </a:outerShdw>
                  </a:effectLst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992160" y="1525680"/>
            <a:ext cx="68580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CI-6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PROYECTO DE AGUA PO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265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271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274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277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158760" y="1643040"/>
            <a:ext cx="6091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Caudales de Diseño Qaño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0" y="2287440"/>
            <a:ext cx="9145440" cy="2248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4960" y="5030640"/>
            <a:ext cx="776772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71010e"/>
                </a:solidFill>
                <a:uFillTx/>
                <a:latin typeface="Copperplate Gothic Bold"/>
              </a:rPr>
              <a:t>VER NORMA NCH691OF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71010e"/>
                </a:solidFill>
                <a:uFillTx/>
                <a:latin typeface="Copperplate Gothic Bold"/>
              </a:rPr>
              <a:t>CONDUCCIÓN, REGULACIÓN Y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67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73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76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79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Introduc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6360" y="2135160"/>
            <a:ext cx="441972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emplo mapa de ubicación centro de la ciud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" y="1643040"/>
            <a:ext cx="609120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Descripción General de la ciu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9145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830240" y="4116240"/>
            <a:ext cx="5605560" cy="1959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54280" y="4040280"/>
            <a:ext cx="5790960" cy="2133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830240" y="4116240"/>
            <a:ext cx="5605560" cy="195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93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99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102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105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9145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58760" y="1643040"/>
            <a:ext cx="6091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Proyección de l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360" y="1982880"/>
            <a:ext cx="4419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5564160"/>
            <a:ext cx="4419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Economét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560" y="2287440"/>
            <a:ext cx="7620120" cy="312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82680" y="2211480"/>
            <a:ext cx="8399520" cy="3343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119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125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128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131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8760" y="1643040"/>
            <a:ext cx="8377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la Población para el añ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92160" y="2135160"/>
            <a:ext cx="2470320" cy="1330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040280" y="2135160"/>
            <a:ext cx="2469960" cy="1495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6360" y="3735360"/>
            <a:ext cx="4419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Aritm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ara realizar la proyección de forma Aritmética se procedió a utilizar el método de los mínimos cuadrados, simplemente ajustando una línea de tendencia a los datos origi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t = 1705.719*t  - 3286149.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030640" y="3805200"/>
            <a:ext cx="3776760" cy="2406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144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150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153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156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30040" y="2516040"/>
            <a:ext cx="4419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Parabo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forma análoga al caso anterior se realizó un ajuste cuadrático a los datos originales para obtener la línea de tendencia respec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t = 3.215*t2 – 10968.294*t + 9204838.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878360" y="2440080"/>
            <a:ext cx="3857760" cy="2628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8760" y="1643040"/>
            <a:ext cx="8377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la Población para el añ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167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173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176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179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06360" y="2151000"/>
            <a:ext cx="495288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Geomét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 se toma el promedio de tasas resulta un Rg de 0.0258 y así la población del 2032 sería de 274.734 habita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uego se procede a tomar las de los dos últimos tra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982-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992-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tonces…. Rg de 0.0143,  con lo cual la población para el 2032 queda descrita p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021360" y="2363760"/>
            <a:ext cx="1590840" cy="1200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5345280" y="3659040"/>
            <a:ext cx="3800160" cy="232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-533520" y="2744640"/>
            <a:ext cx="7774200" cy="244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-1143000" y="5411880"/>
            <a:ext cx="6934320" cy="655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58760" y="1643040"/>
            <a:ext cx="8377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la Población para el añ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193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199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202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205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306360" y="2058840"/>
            <a:ext cx="82296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71010e"/>
                </a:solidFill>
                <a:latin typeface="Copperplate Gothic Bold"/>
              </a:rPr>
              <a:t>Método escogido y valor final de la Población a utili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método parabólico presenta el factor de correlación más alto dentro de los tres métodos analiz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 un valor intermedio entre los tres métodos analiz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se esperan mayores cambios en la pendiente de crecimien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 proyecta que para el año 2032 la población de la Ciudad de Osorno será de 192.078 habit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8760" y="1643040"/>
            <a:ext cx="8377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la Población para el añ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215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221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224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227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8760" y="1643040"/>
            <a:ext cx="609120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Proyección de Dotación y Caudales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287440" y="2135160"/>
            <a:ext cx="579132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C=VFA/(PobA*36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P=DC/(1-(ANC/100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md=Pob*DP*Cob (l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maxd=FDMC*Qmd (l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maxh=FHMC*Qmaxd (l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onde DC= Dotación de Consumo l/hab/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P=Dotación de Producción l/hab/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FA=Volumen Facturado Anual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bA=Promedio de la Población abastecida Anual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DMC=Factor dia de max consu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HMC=Factor hora de max consu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C=Agua No Contabi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0" y="1214280"/>
            <a:ext cx="9145440" cy="5073840"/>
            <a:chOff x="0" y="1214280"/>
            <a:chExt cx="9145440" cy="5073840"/>
          </a:xfrm>
        </p:grpSpPr>
        <p:sp>
          <p:nvSpPr>
            <p:cNvPr id="237" name=""/>
            <p:cNvSpPr/>
            <p:nvPr/>
          </p:nvSpPr>
          <p:spPr>
            <a:xfrm>
              <a:off x="2880" y="1380960"/>
              <a:ext cx="9142560" cy="49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80" y="1214280"/>
              <a:ext cx="9142560" cy="297720"/>
            </a:xfrm>
            <a:prstGeom prst="rect">
              <a:avLst/>
            </a:prstGeom>
            <a:solidFill>
              <a:srgbClr val="f59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214280"/>
              <a:ext cx="9142560" cy="0"/>
            </a:xfrm>
            <a:prstGeom prst="line">
              <a:avLst/>
            </a:prstGeom>
            <a:ln w="225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1192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-15840" y="870120"/>
            <a:ext cx="8145360" cy="0"/>
          </a:xfrm>
          <a:prstGeom prst="line">
            <a:avLst/>
          </a:prstGeom>
          <a:ln w="76320">
            <a:solidFill>
              <a:srgbClr val="8f01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939080" y="870120"/>
            <a:ext cx="365040" cy="272880"/>
            <a:chOff x="7939080" y="870120"/>
            <a:chExt cx="365040" cy="272880"/>
          </a:xfrm>
        </p:grpSpPr>
        <p:sp>
          <p:nvSpPr>
            <p:cNvPr id="243" name=""/>
            <p:cNvSpPr/>
            <p:nvPr/>
          </p:nvSpPr>
          <p:spPr>
            <a:xfrm>
              <a:off x="793908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3736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8399520" y="870120"/>
            <a:ext cx="365040" cy="272880"/>
            <a:chOff x="8399520" y="870120"/>
            <a:chExt cx="365040" cy="272880"/>
          </a:xfrm>
        </p:grpSpPr>
        <p:sp>
          <p:nvSpPr>
            <p:cNvPr id="246" name=""/>
            <p:cNvSpPr/>
            <p:nvPr/>
          </p:nvSpPr>
          <p:spPr>
            <a:xfrm>
              <a:off x="839952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9780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859960" y="870120"/>
            <a:ext cx="365040" cy="272880"/>
            <a:chOff x="8859960" y="870120"/>
            <a:chExt cx="365040" cy="272880"/>
          </a:xfrm>
        </p:grpSpPr>
        <p:sp>
          <p:nvSpPr>
            <p:cNvPr id="249" name=""/>
            <p:cNvSpPr/>
            <p:nvPr/>
          </p:nvSpPr>
          <p:spPr>
            <a:xfrm>
              <a:off x="8859960" y="870120"/>
              <a:ext cx="365040" cy="272880"/>
            </a:xfrm>
            <a:prstGeom prst="donut">
              <a:avLst>
                <a:gd name="adj" fmla="val 13462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58240" y="943560"/>
              <a:ext cx="168480" cy="126000"/>
            </a:xfrm>
            <a:prstGeom prst="donut">
              <a:avLst>
                <a:gd name="adj" fmla="val 25000"/>
              </a:avLst>
            </a:prstGeom>
            <a:noFill/>
            <a:ln w="76320">
              <a:solidFill>
                <a:srgbClr val="8f01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58640" y="509760"/>
            <a:ext cx="7909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Copperplate Gothic Bold"/>
              </a:rPr>
              <a:t>Población y Do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78360" y="77760"/>
            <a:ext cx="35053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r"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59247"/>
                </a:solidFill>
                <a:latin typeface="Times New Roman"/>
              </a:rPr>
              <a:t>Universidad de Chile</a:t>
            </a:r>
            <a:r>
              <a:rPr b="1" i="1" lang="es-CL" sz="1700" spc="-1" strike="noStrike">
                <a:solidFill>
                  <a:srgbClr val="f5924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59247"/>
                </a:solidFill>
                <a:latin typeface="Arial Narrow"/>
              </a:rPr>
              <a:t>Facultad de Ciencias Físicas y Matemat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59247"/>
                </a:solidFill>
                <a:latin typeface="Arial Black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8760" y="1643040"/>
            <a:ext cx="776772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71010e"/>
                </a:solidFill>
                <a:latin typeface="Copperplate Gothic Bold"/>
              </a:rPr>
              <a:t>Ejemplo Proyección de D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8497800" y="0"/>
          <a:ext cx="433440" cy="68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7800" y="0"/>
                    <a:ext cx="433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1068480" y="2058840"/>
            <a:ext cx="6858000" cy="2386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6360" y="4573440"/>
            <a:ext cx="7772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 considera que el consumo industrial corresponde al 5%, por lo que al restar esta cantidad se obtiene el consumo residencial</a:t>
            </a:r>
            <a:r>
              <a:rPr b="0" lang="es-CL" sz="1400" spc="-1" strike="noStrike">
                <a:solidFill>
                  <a:srgbClr val="71010e"/>
                </a:solidFill>
                <a:latin typeface="Copperplate Gothic Bold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1754280" y="4954680"/>
            <a:ext cx="5562360" cy="1295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621560" y="5183280"/>
            <a:ext cx="9144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P(Q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560" y="5869080"/>
            <a:ext cx="12193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turacion(Q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64360" y="525924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50160" y="548784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86040" y="6346800"/>
            <a:ext cx="3573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8280" bIns="828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Arial"/>
              </a:rPr>
              <a:t>Credi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Paolo Zúñiga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2-2393235   pzuniga@ifarle.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6:40:11Z</dcterms:created>
  <dc:creator>Chet Fukushima</dc:creator>
  <dc:description/>
  <dc:language>en-US</dc:language>
  <cp:lastModifiedBy>Paolo Zúñiga Castro</cp:lastModifiedBy>
  <dcterms:modified xsi:type="dcterms:W3CDTF">2006-08-01T13:02:11Z</dcterms:modified>
  <cp:revision>40</cp:revision>
  <dc:subject/>
  <dc:title>Slide 1</dc:title>
</cp:coreProperties>
</file>